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맑은 고딕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42932-F587-46EE-AEED-4F0F39C666F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5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034B5-5304-47D1-BBC2-C8C2CDCADC2C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8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5338-F35F-4707-882D-B17F9A9890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1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2922-A510-4BB5-B90F-FFB510BDB5E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9746B-A712-4006-B8D7-44F275A7F56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7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CC50D-8756-44EC-A356-15709AC0CD38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247B2-37CA-4FC7-AA25-9859CCCC8263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4EDF-A86A-46D8-8760-D6D0BF4E3C75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8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FEFC-D80F-4032-A591-315380AD133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4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35FA7-D1A5-44DE-9CFF-3BFD3DD1B3B7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47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2A84C-6B14-431C-876F-35DC09475650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0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2CE4D-527F-4591-9E21-4BF39CFAD46B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3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8443B-32FB-4DAB-82B3-754C0557C72A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6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5BF08-EB9C-4099-A18D-A89EE8C6DA72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59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51FBA-E771-4547-BB8C-BBEA3329F664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12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62" name="슬라이드 번호 개체 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4D3AD-9F78-42E7-9766-34EBFDB41616}" type="slidenum">
              <a:rPr b="0" lang="ko-KR" sz="12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861FE-3B16-4AEB-9A85-E8FE4649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BAEE-4B84-4A60-971B-BA1FF43D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0CC8-DBB0-44CA-BCD6-085D30F10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FB02-FE92-417A-9570-33895F2E6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67B8A-8806-43C8-A17C-37AB840F0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C0676-74A1-41FB-A60E-2C91EB8AB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5F0A-E5C1-4F01-8ED3-43E063C9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A171-9BC7-48CA-9913-C4FDE6FAA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61EC8-1E25-46BE-AA97-738559CC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21897-AC3A-49BA-A30E-9D75866A8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8133-9F3D-47C4-95FC-C7846AF14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CB6-9848-489C-AEA7-27E59E6DD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B2582-9EEE-49F7-B724-DBBB0EBB8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47E25-FD32-4AA9-A296-2BE07F0A0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B9A5-B968-433A-8EE7-9028FC970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39222-F8F0-4577-AD64-FE23AB332C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6632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284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9360" y="3942000"/>
            <a:ext cx="24534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19D8-87B9-42B1-9DC9-FCE670185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AFA2-800F-4D7B-8926-B53BC3A25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BE2D-EED6-4537-8CF5-31806B1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B9CC-5D38-4675-AE6A-5D0461EAF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8800" y="456840"/>
            <a:ext cx="68580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DB8-89F1-4048-ACA5-C32169322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AF0A-6625-47FB-A18A-87330D0EF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71240" y="394200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A4ABF-289A-48A6-B8F4-9BB9707AF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6320" y="3942000"/>
            <a:ext cx="7620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350F-489B-4230-9B1D-750786D28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66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286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B3A3-DF12-4966-918D-1ABC046D6A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28800" y="456840"/>
            <a:ext cx="6858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D48A8-DC0C-4708-A302-2934ADFF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99840" y="2356920"/>
            <a:ext cx="6140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3333cc"/>
                </a:solidFill>
                <a:latin typeface="HY울릉도M"/>
                <a:ea typeface="HY울릉도M"/>
              </a:rPr>
              <a:t>사회복지의 사상과 역사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 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5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식민시대의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Box 7"/>
          <p:cNvSpPr/>
          <p:nvPr/>
        </p:nvSpPr>
        <p:spPr>
          <a:xfrm>
            <a:off x="1476360" y="1268280"/>
            <a:ext cx="6692760" cy="19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공공부조제도의 시행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조선의 경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부조교정」이 최초의 공공부조법이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4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「조선구호령」에 의해 대체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의 경우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87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최초의 구빈법인 휼구규칙이 제정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4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 구호법이 제정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0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실업문제와 취로사업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: 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궁민구제토목사업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본에서 구호법이 시행되기 시작하던 시기에 조선에서 시행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궁민구제토목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주목할 만한 사업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시행된 농촌의 인프라 정비와 취로사업이라는 두 개의 목적을 가진 사업이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선인 노동자는 일본인 노동자의 절반 정도의 임금을 받는 등의 차별처우가 여전히 있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사업 자체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3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간의 단기사업이었다는 한계가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3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Box 7"/>
          <p:cNvSpPr/>
          <p:nvPr/>
        </p:nvSpPr>
        <p:spPr>
          <a:xfrm>
            <a:off x="1476360" y="1268280"/>
            <a:ext cx="6692760" cy="49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구빈행정의 정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이후 구휼 및 자선사업은 총독부의 지방국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지방과에서 담당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내무국에 사회과가 신설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과가 담당하는 사회사업의 범주에는 사회교육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임시적 사회구제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반사회사업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보호사업 등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포함되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2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사회과는 내무국에서 학무국으로 개편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때 종래의 구빈방빈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건진료부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아동보호부문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노동보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농촌진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자력갱생운동 등의 사회교화사업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급속하게 확장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6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Box 7"/>
          <p:cNvSpPr/>
          <p:nvPr/>
        </p:nvSpPr>
        <p:spPr>
          <a:xfrm>
            <a:off x="1476360" y="1268280"/>
            <a:ext cx="669276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3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각도에 사회과가 신설되어 전국적인 전달체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만들어졌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194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에는 사회과에서 노동행정사무를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분리하여 노무과가 신설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체제가 해방 때까지 이어졌고  한국사회복지전달체계의 기초가 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29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Box 7"/>
          <p:cNvSpPr/>
          <p:nvPr/>
        </p:nvSpPr>
        <p:spPr>
          <a:xfrm>
            <a:off x="1476360" y="1268280"/>
            <a:ext cx="6692760" cy="45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국가시설운영과 민간시설보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상의 공공전달체계와는 별도로 총독부 직속사업으로서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1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6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생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의해 제생원이 설치되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육부와 맹아부로 나누어서 아동과 장애아동을 보호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개항 이후 조선에는 선교사들이 중심이된 다수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시설이 설립되어 있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러한 복지실천에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해서는 정부보조금이 지급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보조금제도를 활용하여 민간에 복지사업을 위탁하게 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형식은 사회복지시설의 운영에 국한된 것이 아니라 일시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사업에 있어서도 행해짐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2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Box 7"/>
          <p:cNvSpPr/>
          <p:nvPr/>
        </p:nvSpPr>
        <p:spPr>
          <a:xfrm>
            <a:off x="1476360" y="1268280"/>
            <a:ext cx="6692760" cy="41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방면위원제도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도의 기원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7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 오카야마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세고문제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오사카부방면위원규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에 근거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은 민간독지가의 신분으로서 빈곤자의 생활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조사하고 필요한 원조를 제공하였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배경에 자본주의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모순에 의한 사회불안이 있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방면위원의 임무는 지역 내의 빈곤생활자 조사를 위시하여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와 관련된 제반 조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1476360" y="1268280"/>
            <a:ext cx="669276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사회복지의 기반과 유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커밍스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2012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는 일제가 남긴 것으로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비교적 잘 발달된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교통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세계시장시스템과 조선을 연결시킨 것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근대적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술을 가진 인력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고도로 체계화된 관료조직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들고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 중에서도 중요한 것은 조직된 관료조직과 기본교육의 보급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제도의 기반에 관한 부분에서는 호적제도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확립되었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그것은 백정의 신분도 호적을 갖게 됨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미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경제영역에서는 자본주의적 경제질서가 강화되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유재산제도가 정착되어 갔으며 사법의 영역에서는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법치적 문화가 강화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3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Box 7"/>
          <p:cNvSpPr/>
          <p:nvPr/>
        </p:nvSpPr>
        <p:spPr>
          <a:xfrm>
            <a:off x="1476360" y="1268280"/>
            <a:ext cx="6692760" cy="459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잔여적 복지모형과 사회복지의 새로운 시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복제실천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바람직한 복지실천의 모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을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시하지 못했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결국 그것을 통하여 선별주의적이고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잔여적인 복지모델을 한국 사회에 이식하는 결과를 가져옴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복지제도의 발전이라고 볼 수 있는 변화의 조짐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복지문제에 대한 새로운 대처방식이 시도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복지문제에 대한 과학적인 조사가 진척되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빈곤이나 장애인문제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주택문제 등에 관한 기초자료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축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20920" y="2572920"/>
            <a:ext cx="613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HY울릉도M"/>
                <a:ea typeface="HY울릉도M"/>
              </a:rPr>
              <a:t>Thank you!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2411280" y="4723920"/>
            <a:ext cx="556272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-Next-</a:t>
            </a:r>
            <a:r>
              <a:rPr b="0" lang="ko-KR" sz="3200" spc="-1" strike="noStrike">
                <a:solidFill>
                  <a:srgbClr val="ff0000"/>
                </a:solidFill>
                <a:latin typeface="HY울릉도M"/>
                <a:ea typeface="HY울릉도M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제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16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장 미군정기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전쟁과 사회복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2" name="제목 1"/>
          <p:cNvSpPr/>
          <p:nvPr/>
        </p:nvSpPr>
        <p:spPr>
          <a:xfrm>
            <a:off x="1432080" y="360360"/>
            <a:ext cx="740700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다룰 내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부제목 2"/>
          <p:cNvSpPr/>
          <p:nvPr/>
        </p:nvSpPr>
        <p:spPr>
          <a:xfrm>
            <a:off x="1432080" y="1700280"/>
            <a:ext cx="7589520" cy="46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속성과 단절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구빈행정과 공사관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HY울릉도M"/>
                <a:ea typeface="HY울릉도M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의 유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41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5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Box 7"/>
          <p:cNvSpPr/>
          <p:nvPr/>
        </p:nvSpPr>
        <p:spPr>
          <a:xfrm>
            <a:off x="1476360" y="1268280"/>
            <a:ext cx="6692760" cy="31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 직전의 조선사회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시기 민중의 생활은 극도로 피폐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삼정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三政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문란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1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紊亂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이 시대의 사회상을 적나라하게 보여주며 농사에 대한 세금과 군역의 의무에 관해서 관리들은 온갖 구실을 붙여서 법으로 정해진 세금 이상의 부담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에 지웠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양반을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민중의 피를 빨아먹는 기생충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라고 표현한 서양인 여행자의 표현은 오히려 자비스러울 정도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98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Box 7"/>
          <p:cNvSpPr/>
          <p:nvPr/>
        </p:nvSpPr>
        <p:spPr>
          <a:xfrm>
            <a:off x="1476360" y="1268280"/>
            <a:ext cx="6692760" cy="263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근대화론과 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‘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개발 없는 개발</a:t>
            </a: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’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의 검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9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을 전후하여 한국에서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근대화론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제기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논의는 식민지수탈론자들에 의한 역사왜곡을 지적하고 지나친 그들의 민족주의적 관점을 비판하여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안이하고 감정적인 역사연구의 경향에 경종을 울렸다는 점에서는 의미가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있는 논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지 시기를 전후한 제도의                   연속성과 단절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7"/>
          <p:cNvSpPr/>
          <p:nvPr/>
        </p:nvSpPr>
        <p:spPr>
          <a:xfrm>
            <a:off x="1476360" y="1268280"/>
            <a:ext cx="6692760" cy="31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※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사회복지의 시각에서 볼 때 식민지근대화론자의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    </a:t>
            </a:r>
            <a:r>
              <a:rPr b="0" lang="ko-KR" sz="2000" spc="-1" strike="noStrike">
                <a:solidFill>
                  <a:srgbClr val="00664d"/>
                </a:solidFill>
                <a:latin typeface="HY울릉도M"/>
                <a:ea typeface="HY울릉도M"/>
              </a:rPr>
              <a:t>주장에 받아들이기 어려운 논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첫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공리주의적이라는 점에서 비판의 여지가 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70c0"/>
                </a:solidFill>
                <a:latin typeface="HY울릉도M"/>
                <a:ea typeface="HY울릉도M"/>
              </a:rPr>
              <a:t>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둘째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: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산업혁명에 관한 토인비와 아슈톤의 논쟁을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연상시키는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의 상태는 반드시 통계자료에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해서는 증명하기 어려운 무엇이 있다는 중요한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          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실을 그 논쟁이 상기시켜주기 때문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Box 7"/>
          <p:cNvSpPr/>
          <p:nvPr/>
        </p:nvSpPr>
        <p:spPr>
          <a:xfrm>
            <a:off x="1476360" y="1268280"/>
            <a:ext cx="6692760" cy="37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지조사와 그 영향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부터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18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까지 일제는 막대한 자금과 인력을 투입하여 식민지조선에 대한 대대적이고 철저한            토지조사를 실시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토지조사의 목적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식민지를 상대로 한 토지조사이므로 그 것이 넓은 의미에서 수탈을 위한 조사였다는 것은 명약관화한 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소유를 명확하게 하고 소유자에게 법적인 권리를 부여하는 것은 근대자본주의의 근간을 이루는 사유권 절대의 원칙이 실현된 것으로 볼 수 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현실적으로 볼 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지조사는 식민통치의 재원이 되는 토지세를 확보하기 위한 조치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07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Box 7"/>
          <p:cNvSpPr/>
          <p:nvPr/>
        </p:nvSpPr>
        <p:spPr>
          <a:xfrm>
            <a:off x="1476360" y="1268280"/>
            <a:ext cx="6692760" cy="22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빈곤의 심화와 소작농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사회경제적 배경으로 발생하는 빈곤으로서 중시할 것은 소작농의 급증과 도시빈민층의 형성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시대 한국의 소작농은 세계에서도 유례를 찾아보기 힘든 극도의 착취와 비참한 생활을 하였다고 지적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2"/>
          <a:stretch/>
        </p:blipFill>
        <p:spPr>
          <a:xfrm>
            <a:off x="1187280" y="3429000"/>
            <a:ext cx="7377120" cy="30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1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전통적 빈곤문제의 심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Box 7"/>
          <p:cNvSpPr/>
          <p:nvPr/>
        </p:nvSpPr>
        <p:spPr>
          <a:xfrm>
            <a:off x="1476360" y="1268280"/>
            <a:ext cx="6692760" cy="32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토막민문제에 관하여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 이후 도시빈곤의 상징과 같은 것이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의 존재였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토막민은 단순한 빈곤층의 생성이라는 것뿐 아니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한국 사회의 전통적인 주거의 열악성을 상징하는 것으로 봄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일제의 토지조사가 끝나는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1920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년대가 되면 몰락한 농민이 농촌을 떠나게 되면서 토막민의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집단주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’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가 형성되었음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-36360" y="-9360"/>
            <a:ext cx="9144000" cy="6894360"/>
          </a:xfrm>
          <a:prstGeom prst="rect">
            <a:avLst/>
          </a:prstGeom>
          <a:ln w="0">
            <a:noFill/>
          </a:ln>
        </p:spPr>
      </p:pic>
      <p:sp>
        <p:nvSpPr>
          <p:cNvPr id="114" name="제목 1"/>
          <p:cNvSpPr/>
          <p:nvPr/>
        </p:nvSpPr>
        <p:spPr>
          <a:xfrm>
            <a:off x="1432080" y="189000"/>
            <a:ext cx="75610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541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HY울릉도M"/>
                <a:ea typeface="HY울릉도M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. </a:t>
            </a:r>
            <a:r>
              <a:rPr b="0" lang="ko-KR" sz="3200" spc="-1" strike="noStrike">
                <a:solidFill>
                  <a:srgbClr val="000000"/>
                </a:solidFill>
                <a:latin typeface="HY울릉도M"/>
                <a:ea typeface="HY울릉도M"/>
              </a:rPr>
              <a:t>식민통치와 사회복지사업의 시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476360" y="1268280"/>
            <a:ext cx="6692760" cy="43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식민지시대의 시기구분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①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무단통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10~191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문화정치기간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(1920~1931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HY울릉도M"/>
                <a:ea typeface="HY울릉도M"/>
              </a:rPr>
              <a:t>대륙침략병참기지기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22228b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 </a:t>
            </a:r>
            <a:r>
              <a:rPr b="1" lang="ko-KR" sz="2100" spc="-1" strike="noStrike">
                <a:solidFill>
                  <a:srgbClr val="22228b"/>
                </a:solidFill>
                <a:latin typeface="HY울릉도M"/>
                <a:ea typeface="HY울릉도M"/>
              </a:rPr>
              <a:t>은사금이라는 사회복지 재원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b050"/>
                </a:solidFill>
                <a:latin typeface="HY울릉도M"/>
                <a:ea typeface="HY울릉도M"/>
              </a:rPr>
              <a:t>은사금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 직접 사업비로 사용하는 것이 아니라 그것을 기금으로 삼고 그 이자수입으로 사업비를 충당하는 형식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은사금의 용도 중 가장 큰 몫을 차지하는 것은 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‘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수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(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授産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)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과 교육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기근구제의 항목인데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, </a:t>
            </a:r>
            <a:r>
              <a:rPr b="0" lang="ko-KR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이 항목은 사회복지사업과 직접적으로 관련됨</a:t>
            </a:r>
            <a:r>
              <a:rPr b="0" lang="en-US" sz="1800" spc="-1" strike="noStrike">
                <a:solidFill>
                  <a:srgbClr val="000000"/>
                </a:solidFill>
                <a:latin typeface="HY울릉도M"/>
                <a:ea typeface="HY울릉도M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1T04:24:23Z</dcterms:created>
  <dc:creator>LG</dc:creator>
  <dc:description/>
  <dc:language>en-US</dc:language>
  <cp:lastModifiedBy>LG</cp:lastModifiedBy>
  <dcterms:modified xsi:type="dcterms:W3CDTF">2014-03-18T07:35:34Z</dcterms:modified>
  <cp:revision>539</cp:revision>
  <dc:subject/>
  <dc:title>사회복지의 사상과 역사</dc:title>
</cp:coreProperties>
</file>